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by102.wav" ContentType="audio/x-wav"/>
  <Override PartName="/ppt/media/caralarmoff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lzipup01.wav" ContentType="audio/x-wav"/>
  <Override PartName="/ppt/media/bserie06.wav" ContentType="audio/x-wav"/>
  <Override PartName="/ppt/media/image2.gif" ContentType="image/gif"/>
  <Override PartName="/ppt/media/zapvib04.wav" ContentType="audio/x-wav"/>
  <Override PartName="/ppt/media/zipdn102.wav" ContentType="audio/x-wav"/>
  <Override PartName="/ppt/media/meepmeep.wav" ContentType="audio/x-wav"/>
  <Override PartName="/ppt/media/zapbig0g.wav" ContentType="audio/x-wav"/>
  <Override PartName="/ppt/media/image1.gif" ContentType="image/gif"/>
  <Override PartName="/ppt/media/image3.gif" ContentType="image/gif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6B2-0A4D-4B71-8008-C3B4B1D8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424-4FDB-419C-85F9-F8D2549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5BD-30F0-4917-B84C-159EFA7F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82E-63E0-4906-8DA4-92F76CD6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282-8DAA-4CCF-908F-FED35DB0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1B2-7F45-45F0-8B18-267E5D1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CFA-A6F7-4713-AE06-EF4F7028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2A5-82FE-4118-A253-E60801C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D69-0970-4955-A7C4-A38D4BDF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F87-F7DD-44EF-B2CE-4B800D3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7A2-3248-4AB7-AC15-251B42B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1BC-8065-453E-A40B-6A542898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F02-D6B0-46EE-AA82-4BF3192E3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meepmeep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zapvib04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audio" Target="../media/zipdn102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ipby102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zapvib04.wav"/><Relationship Id="rId17" Type="http://schemas.openxmlformats.org/officeDocument/2006/relationships/audio" Target="../media/hzipup01.wav"/><Relationship Id="rId18" Type="http://schemas.openxmlformats.org/officeDocument/2006/relationships/audio" Target="../media/zapvib04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hzipup01.wav"/><Relationship Id="rId15" Type="http://schemas.openxmlformats.org/officeDocument/2006/relationships/audio" Target="../media/zapvib04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hzipup01.wav"/><Relationship Id="rId15" Type="http://schemas.openxmlformats.org/officeDocument/2006/relationships/audio" Target="../media/zapvib04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91960" y="1695600"/>
                <a:ext cx="167004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50000" y="1873080"/>
            <a:ext cx="32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rite a fraction as a percent, change it into a decimal and move the decimal 2 places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0000" y="4915080"/>
            <a:ext cx="32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change it into a decimal simply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28840" y="3978360"/>
                <a:ext cx="566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044800" y="3846600"/>
                <a:ext cx="879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48240" y="3841920"/>
                <a:ext cx="106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486160" y="497376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V="1" rot="16200000">
            <a:off x="4426200" y="42674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" name=""/>
          <p:cNvCxnSpPr/>
          <p:nvPr/>
        </p:nvCxnSpPr>
        <p:spPr>
          <a:xfrm flipV="1" rot="16200000">
            <a:off x="4903920" y="42577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32520" y="44132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13400" y="38210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68200" y="1695600"/>
                <a:ext cx="171936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0000" y="1873080"/>
            <a:ext cx="32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rite a fraction as a percent, change it into a decimal and move the decimal 2 places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0000" y="4915080"/>
            <a:ext cx="32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change it into a decimal simply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28840" y="3978360"/>
                <a:ext cx="566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044800" y="3846600"/>
                <a:ext cx="879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15800" y="4697280"/>
                <a:ext cx="3205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357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675240" y="5365800"/>
                <a:ext cx="1626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9" name=""/>
          <p:cNvCxnSpPr/>
          <p:nvPr/>
        </p:nvCxnSpPr>
        <p:spPr>
          <a:xfrm flipV="1" rot="16200000">
            <a:off x="2117880" y="58215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 rot="16200000">
            <a:off x="2595600" y="58122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2824200" y="59673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28760" y="5430960"/>
                <a:ext cx="1423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3 pounds of asparagus cost $5, how many pounds can you buy for $2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10400" y="2374920"/>
            <a:ext cx="3333600" cy="204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79320" y="3059280"/>
                <a:ext cx="435456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un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un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6840" y="5423040"/>
                <a:ext cx="4604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73480" y="4691160"/>
                <a:ext cx="50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03560" y="5408640"/>
                <a:ext cx="828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43680" y="44337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23000" y="4444920"/>
                <a:ext cx="954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363680" y="4983120"/>
            <a:ext cx="912960" cy="77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457280" y="5046840"/>
            <a:ext cx="92880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59440" y="521028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419880" y="52196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778800" y="5216400"/>
                <a:ext cx="560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46640" y="6068880"/>
                <a:ext cx="8985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64280" y="615636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29360" y="156852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14400"/>
            <a:ext cx="70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ty ounces of tomatoes cost $4. How much does 30 ounces co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2120" y="3059280"/>
                <a:ext cx="418932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nc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nc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74880" y="5445000"/>
                <a:ext cx="5061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35240" y="4622760"/>
                <a:ext cx="782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63760" y="5478480"/>
                <a:ext cx="506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94360" y="4406760"/>
                <a:ext cx="19051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5080" y="4430880"/>
                <a:ext cx="14032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496880" y="5049720"/>
            <a:ext cx="831960" cy="69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457280" y="5046840"/>
            <a:ext cx="84924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35520" y="5210280"/>
                <a:ext cx="10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580080" y="52070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15080" y="5203800"/>
                <a:ext cx="10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94320" y="6012000"/>
                <a:ext cx="5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51520" y="5996160"/>
            <a:ext cx="63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47000" y="1712880"/>
            <a:ext cx="2097000" cy="27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144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alk 5 miles in 2 hours, how many miles can you walk in 6 hou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8480" y="3059280"/>
                <a:ext cx="357480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95320" y="5445000"/>
                <a:ext cx="506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73480" y="4691160"/>
                <a:ext cx="50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87520" y="5408640"/>
                <a:ext cx="460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43680" y="44337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94200" y="4444920"/>
                <a:ext cx="1011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363680" y="4983120"/>
            <a:ext cx="912960" cy="77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57280" y="5046840"/>
            <a:ext cx="92880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32440" y="5237280"/>
                <a:ext cx="6159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419880" y="52196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51800" y="524340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246640" y="6040440"/>
                <a:ext cx="898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164280" y="615636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7, 10 – 12 #1-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8T20:14:44Z</dcterms:modified>
  <cp:revision>95</cp:revision>
  <dc:subject/>
  <dc:title>Slide 1</dc:title>
</cp:coreProperties>
</file>